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603-9825-4647-8A46-8D0A089F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1DA-704A-460D-9A41-05C1B18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92C-21F0-4C6F-8A5E-0B4DCD2C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DAB-18B9-481D-B69E-CBD0716E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A9F5-02EC-4FD7-828B-71B3745C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CAF-3D59-4D67-BD98-48DB7271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47D-26C0-4080-AAED-69EC3C30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D9D-5B30-47C4-BCDC-CD8ED5C6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6F1-CE0D-4BC7-95EE-E5420E1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264-CCED-4E47-AC0C-8BB745DC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426-EB8B-4796-A6D1-BF78CD2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9CC-9CC9-4353-8CAF-6BB4F5AC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42E-8547-4293-BC0C-31DADC7F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EB11-668B-4E0D-BCA7-4160FAA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9A88-59E1-435A-B914-F2FFD34F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247-2A1E-41C1-8CF5-A84A907D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09A7-6AEE-4BE1-91DF-0E27D627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9EA-BB01-4AF5-B0D5-83F3F7F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D46-4A19-4CDE-B98F-209F3CAB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B45-2533-44B8-8AA1-830B5AA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2D8-C6AC-4FE4-82E3-65A42966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C86-B8C7-4AAC-B4CA-E62E7D9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8EE-4518-4534-BBFF-882D60B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207-9D9C-43EF-9AAE-57DD4E6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662-F141-47B0-A4AF-C52F2751DD99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B7DF-9768-4204-B7B3-22156EE24850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76360" y="1805040"/>
            <a:ext cx="64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Editorial El Abuelo P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Pablo Zu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"Aventura con el auto mágico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703dff"/>
                </a:solidFill>
                <a:latin typeface="Comic Sans MS"/>
              </a:rPr>
              <a:t>Cnel.Machado 3342.Castelar.17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703dff"/>
                </a:solidFill>
                <a:latin typeface="Comic Sans MS"/>
              </a:rPr>
              <a:t>Buenos Aires.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703dff"/>
                </a:solidFill>
                <a:latin typeface="Comic Sans MS"/>
              </a:rPr>
              <a:t>Tel/fax: 54 11 46 24 10 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703dff"/>
                </a:solidFill>
                <a:latin typeface="Comic Sans MS"/>
              </a:rPr>
              <a:t>www.trabajoconmiabuelo.com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5247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Nota diario “ Clarín” 5/10/20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842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7777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ste proyecto podrá visualizarlo e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703dff"/>
                </a:solidFill>
                <a:latin typeface="Comic Sans MS"/>
              </a:rPr>
              <a:t>www.trabajoconmiabuelo.com.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703dff"/>
                </a:solidFill>
                <a:latin typeface="Comic Sans MS"/>
              </a:rPr>
              <a:t>http://www.vimeo.com/user8330611/vide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ste proyecto incluye el asesoramiento integral para su puesta en marcha y el desarrollo del primer taller en cada escue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s un proyecto innovador en el área pedagógica y didáctica , con la difusión del libro asociado a un proyecto constructivo que permite desarrollar múltiples obje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Podrá utilizarse una infinidad de veces. Después del taller de armado, se desarma , replicando el taller en cada una de salas  durante vario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s utilizado en sala de 5 de nivel inicial, como taller de abuelos con nietos, y luego en 1°, 2° y 3° grado nivel primario, como taller de manualidad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Inédita experiencia emocional comparti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84480" y="3808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omic Sans MS"/>
              </a:rPr>
              <a:t>Característicos del Proyec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El bajo costo de inversión por escuela y las repercusión que represen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Se busca priorizar las instituciones de poblaciones mas vulnerables , para fortalecer proceso de igualdades a los que por razones de una historia inequitativa no acceden a disfrutar de los bienes culturales, reciben una educación difer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78000" y="380880"/>
            <a:ext cx="29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omic Sans MS"/>
              </a:rPr>
              <a:t>Ventajas del Proyec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Fortalecer los lazos familiares y las relaciones personales entre adultos mayores y ni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a población beneficiaria: distinguimos 4 tipos de beneficiarios directos del proyecto, vinculados por el aprendizaj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os niños que participan en el tall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os docentes que tendrán una nueva visión a través del desarrollo de estos talle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os padres, adultos a cargo y/o abuelos especialmente invitados a vivenciar la experiencia de leer y constru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as instituciones que participen de esta experiencia educat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mic Sans MS"/>
              </a:rPr>
              <a:t>La repercusión de este proyecto en la ciudad elegida, CABA,  será muy import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4320" y="380880"/>
            <a:ext cx="31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omic Sans MS"/>
              </a:rPr>
              <a:t>Beneficios del Proyec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76360" y="2567160"/>
            <a:ext cx="64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Muchas Gracias por su 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Editorial El Abuelo P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03dff"/>
                </a:solidFill>
                <a:latin typeface="Comic Sans MS"/>
              </a:rPr>
              <a:t>Pablo Zu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7451640" y="5805360"/>
            <a:ext cx="865440" cy="576360"/>
          </a:xfrm>
          <a:custGeom>
            <a:avLst/>
            <a:gdLst>
              <a:gd name="textAreaLeft" fmla="*/ 37080 w 865440"/>
              <a:gd name="textAreaRight" fmla="*/ 828360 w 865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7696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703dff"/>
                </a:solidFill>
                <a:latin typeface="Comic Sans MS"/>
              </a:rPr>
              <a:t>Da tu primer paso con fe, no es necesario que veas toda la escalera completa, sólo da tu primer paso.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703dff"/>
                </a:solidFill>
                <a:latin typeface="Comic Sans MS"/>
              </a:rPr>
              <a:t>                          Martin Luther 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624720" cy="35276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89160" y="380880"/>
            <a:ext cx="41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omic Sans MS"/>
              </a:rPr>
              <a:t>Visión del Proyecto a transmiti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Caso de un Mece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7850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8421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42920" y="1087560"/>
            <a:ext cx="6913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087560"/>
            <a:ext cx="6624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1087560"/>
            <a:ext cx="6624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02000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594036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333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mic Sans MS"/>
              </a:rPr>
              <a:t>Talle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76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02:03Z</dcterms:created>
  <dc:creator>aperez</dc:creator>
  <dc:description/>
  <dc:language>en-US</dc:language>
  <cp:lastModifiedBy>olopez</cp:lastModifiedBy>
  <dcterms:modified xsi:type="dcterms:W3CDTF">2011-11-24T15:46:38Z</dcterms:modified>
  <cp:revision>33</cp:revision>
  <dc:subject/>
  <dc:title>Diapositiva 1</dc:title>
</cp:coreProperties>
</file>